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87e"/>
                </a:solidFill>
                <a:latin typeface="Neo Sans Intel"/>
              </a:rPr>
              <a:t>Click to move the slide</a:t>
            </a: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BFE9-8885-4792-876C-C52772B23A7B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4E11-CD33-4510-AFBD-FD94D7B3EB59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90F9-FCAC-4983-B35E-BCD02E70CF3B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D20C-F7C7-4AF3-984A-71EA144095A4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1459-191C-4C54-8193-1F1DB2914D93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48AE-4440-4C56-9F13-80FF102956B2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45F4-2C67-4FD9-BE1F-95DE4AC7D312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97D1-E365-428A-8C96-DAAB152A16C3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26F4-731D-4654-B6E5-49C97F803407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2596-C7A0-4757-A272-1454E006D3FE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CF67-7F4E-42C9-9AE4-DB473058692D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9DD3-BE81-4C34-8ED8-91D2F8D686CA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E621-3086-421A-B8CF-53369DCE4ADF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782E-9190-405C-861F-D6445D1EB755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9542-70A5-44E0-BECC-C9D35DA410C6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616A-D48C-47CC-A790-152772D6F769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0495-BF87-4474-AE6D-305E867DD2D7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FD93-FA93-4E1D-A8F0-6449595B1426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72C9-DA95-49ED-BF75-52E786CF945A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9F80-AFFD-4853-B20F-E82CA109275B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7310-8E4B-4B28-BC40-6B8400764581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2797-DC6E-4373-913F-55C3BB1068E6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E375-78B2-4058-BE01-CDE24CEDD78B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C5FB-D8D2-4232-97A3-3053BB940A54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336A-9492-4B90-BC94-01B7E52FCAC0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0077-0609-468A-9119-93657590B1A6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CF05-38FA-4947-B59C-91E61AE0F125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87e"/>
                </a:solidFill>
                <a:latin typeface="Neo Sans Intel"/>
              </a:rPr>
              <a:t>Click to edit the title text format</a:t>
            </a: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o Sans Int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Neo Sans Int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o Sans Int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o Sans Int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Neo Sans Int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o Sans Int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Neo Sans Int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o Sans Int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Neo Sans Int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o Sans Int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Neo Sans Int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o Sans Int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2" name="Line 9"/>
          <p:cNvSpPr/>
          <p:nvPr/>
        </p:nvSpPr>
        <p:spPr>
          <a:xfrm flipH="1">
            <a:off x="250560" y="907920"/>
            <a:ext cx="8785080" cy="0"/>
          </a:xfrm>
          <a:prstGeom prst="line">
            <a:avLst/>
          </a:prstGeom>
          <a:ln w="19080">
            <a:solidFill>
              <a:srgbClr val="0048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87e"/>
                </a:solidFill>
                <a:latin typeface="Neo Sans Intel"/>
              </a:rPr>
              <a:t>Click to edit the title text format</a:t>
            </a: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o Sans Int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Neo Sans Int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o Sans Int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o Sans Int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Neo Sans Int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o Sans Int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Neo Sans Int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o Sans Int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Neo Sans Int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o Sans Int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Neo Sans Int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o Sans Int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00487e"/>
                </a:solidFill>
                <a:latin typeface="Neo Sans Intel"/>
              </a:rPr>
              <a:t>ÇOKLU ZEKA</a:t>
            </a: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 </a:t>
            </a: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998800" y="1125360"/>
          <a:ext cx="5318280" cy="2374920"/>
        </p:xfrm>
        <a:graphic>
          <a:graphicData uri="http://schemas.openxmlformats.org/drawingml/2006/table">
            <a:tbl>
              <a:tblPr/>
              <a:tblGrid>
                <a:gridCol w="2496960"/>
                <a:gridCol w="2821320"/>
              </a:tblGrid>
              <a:tr h="55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bonhidrat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te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a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ta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Şe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ompleks</a:t>
                      </a: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Şeker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inera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87" name="Rectangle 61"/>
          <p:cNvSpPr/>
          <p:nvPr/>
        </p:nvSpPr>
        <p:spPr>
          <a:xfrm>
            <a:off x="0" y="2394000"/>
            <a:ext cx="9144000" cy="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016000" y="3933720"/>
          <a:ext cx="5004000" cy="2735280"/>
        </p:xfrm>
        <a:graphic>
          <a:graphicData uri="http://schemas.openxmlformats.org/drawingml/2006/table">
            <a:tbl>
              <a:tblPr/>
              <a:tblGrid>
                <a:gridCol w="2502000"/>
                <a:gridCol w="2502000"/>
              </a:tblGrid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özel-Dils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e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İçs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e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ntıksal-Matematiks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e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işileraras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e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örsel-Uzams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e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densel Kinestet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e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üziksel-Ritm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e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ğ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ekas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89" name="Text Box 114"/>
          <p:cNvSpPr/>
          <p:nvPr/>
        </p:nvSpPr>
        <p:spPr>
          <a:xfrm rot="16200000">
            <a:off x="-42120" y="1922760"/>
            <a:ext cx="2303640" cy="707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Geleneksel </a:t>
            </a:r>
            <a:endParaRPr b="0" lang="en-US" sz="1600" spc="-1" strike="noStrike">
              <a:solidFill>
                <a:srgbClr val="000000"/>
              </a:solidFill>
              <a:latin typeface="Neo Sans Inte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Besinler</a:t>
            </a:r>
            <a:endParaRPr b="0" lang="en-US" sz="16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90" name="Text Box 115"/>
          <p:cNvSpPr/>
          <p:nvPr/>
        </p:nvSpPr>
        <p:spPr>
          <a:xfrm rot="16200000">
            <a:off x="69840" y="5481360"/>
            <a:ext cx="1296720" cy="1078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Sanat ve</a:t>
            </a:r>
            <a:endParaRPr b="0" lang="en-US" sz="1600" spc="-1" strike="noStrike">
              <a:solidFill>
                <a:srgbClr val="000000"/>
              </a:solidFill>
              <a:latin typeface="Neo Sans Inte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Müzik</a:t>
            </a:r>
            <a:endParaRPr b="0" lang="en-US" sz="1600" spc="-1" strike="noStrike">
              <a:solidFill>
                <a:srgbClr val="000000"/>
              </a:solidFill>
              <a:latin typeface="Neo Sans Inte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Zekaları</a:t>
            </a:r>
            <a:endParaRPr b="0" lang="en-US" sz="16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91" name="Text Box 116"/>
          <p:cNvSpPr/>
          <p:nvPr/>
        </p:nvSpPr>
        <p:spPr>
          <a:xfrm rot="16200000">
            <a:off x="69840" y="4042800"/>
            <a:ext cx="1297080" cy="1078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Geleneksel</a:t>
            </a:r>
            <a:endParaRPr b="0" lang="en-US" sz="1600" spc="-1" strike="noStrike">
              <a:solidFill>
                <a:srgbClr val="000000"/>
              </a:solidFill>
              <a:latin typeface="Neo Sans Inte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Zekalar</a:t>
            </a:r>
            <a:endParaRPr b="0" lang="en-US" sz="1600" spc="-1" strike="noStrike">
              <a:solidFill>
                <a:srgbClr val="000000"/>
              </a:solidFill>
              <a:latin typeface="Neo Sans Inte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92" name="Text Box 120"/>
          <p:cNvSpPr/>
          <p:nvPr/>
        </p:nvSpPr>
        <p:spPr>
          <a:xfrm rot="5400000">
            <a:off x="7889040" y="5668200"/>
            <a:ext cx="1297080" cy="707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Açıkhava</a:t>
            </a:r>
            <a:endParaRPr b="0" lang="en-US" sz="1600" spc="-1" strike="noStrike">
              <a:solidFill>
                <a:srgbClr val="000000"/>
              </a:solidFill>
              <a:latin typeface="Neo Sans Inte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Zekaları</a:t>
            </a:r>
            <a:endParaRPr b="0" lang="en-US" sz="16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93" name="Text Box 121"/>
          <p:cNvSpPr/>
          <p:nvPr/>
        </p:nvSpPr>
        <p:spPr>
          <a:xfrm rot="5400000">
            <a:off x="7889040" y="4228200"/>
            <a:ext cx="1297080" cy="707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Kişisel</a:t>
            </a:r>
            <a:endParaRPr b="0" lang="en-US" sz="1600" spc="-1" strike="noStrike">
              <a:solidFill>
                <a:srgbClr val="000000"/>
              </a:solidFill>
              <a:latin typeface="Neo Sans Inte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Zekalar</a:t>
            </a:r>
            <a:endParaRPr b="0" lang="en-US" sz="16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94" name="AutoShape 123"/>
          <p:cNvSpPr/>
          <p:nvPr/>
        </p:nvSpPr>
        <p:spPr>
          <a:xfrm>
            <a:off x="1692360" y="1268280"/>
            <a:ext cx="1152360" cy="216000"/>
          </a:xfrm>
          <a:prstGeom prst="rightArrow">
            <a:avLst>
              <a:gd name="adj1" fmla="val 50000"/>
              <a:gd name="adj2" fmla="val 13337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95" name="AutoShape 124"/>
          <p:cNvSpPr/>
          <p:nvPr/>
        </p:nvSpPr>
        <p:spPr>
          <a:xfrm>
            <a:off x="1692360" y="1844640"/>
            <a:ext cx="1152360" cy="216000"/>
          </a:xfrm>
          <a:prstGeom prst="rightArrow">
            <a:avLst>
              <a:gd name="adj1" fmla="val 50000"/>
              <a:gd name="adj2" fmla="val 13337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96" name="AutoShape 125"/>
          <p:cNvSpPr/>
          <p:nvPr/>
        </p:nvSpPr>
        <p:spPr>
          <a:xfrm>
            <a:off x="1403280" y="4221000"/>
            <a:ext cx="576360" cy="216000"/>
          </a:xfrm>
          <a:prstGeom prst="rightArrow">
            <a:avLst>
              <a:gd name="adj1" fmla="val 50000"/>
              <a:gd name="adj2" fmla="val 6670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97" name="AutoShape 131"/>
          <p:cNvSpPr/>
          <p:nvPr/>
        </p:nvSpPr>
        <p:spPr>
          <a:xfrm>
            <a:off x="1403280" y="4869000"/>
            <a:ext cx="576360" cy="215640"/>
          </a:xfrm>
          <a:prstGeom prst="rightArrow">
            <a:avLst>
              <a:gd name="adj1" fmla="val 50000"/>
              <a:gd name="adj2" fmla="val 6682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98" name="AutoShape 132"/>
          <p:cNvSpPr/>
          <p:nvPr/>
        </p:nvSpPr>
        <p:spPr>
          <a:xfrm>
            <a:off x="1403280" y="5516640"/>
            <a:ext cx="576360" cy="216000"/>
          </a:xfrm>
          <a:prstGeom prst="rightArrow">
            <a:avLst>
              <a:gd name="adj1" fmla="val 50000"/>
              <a:gd name="adj2" fmla="val 6670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99" name="AutoShape 133"/>
          <p:cNvSpPr/>
          <p:nvPr/>
        </p:nvSpPr>
        <p:spPr>
          <a:xfrm>
            <a:off x="1403280" y="6237360"/>
            <a:ext cx="576360" cy="216000"/>
          </a:xfrm>
          <a:prstGeom prst="rightArrow">
            <a:avLst>
              <a:gd name="adj1" fmla="val 50000"/>
              <a:gd name="adj2" fmla="val 6670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00" name="AutoShape 134"/>
          <p:cNvSpPr/>
          <p:nvPr/>
        </p:nvSpPr>
        <p:spPr>
          <a:xfrm rot="10800000">
            <a:off x="7090920" y="4221000"/>
            <a:ext cx="576360" cy="216000"/>
          </a:xfrm>
          <a:prstGeom prst="rightArrow">
            <a:avLst>
              <a:gd name="adj1" fmla="val 50000"/>
              <a:gd name="adj2" fmla="val 6670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01" name="AutoShape 135"/>
          <p:cNvSpPr/>
          <p:nvPr/>
        </p:nvSpPr>
        <p:spPr>
          <a:xfrm rot="10800000">
            <a:off x="7093080" y="4868640"/>
            <a:ext cx="576000" cy="215640"/>
          </a:xfrm>
          <a:prstGeom prst="rightArrow">
            <a:avLst>
              <a:gd name="adj1" fmla="val 50000"/>
              <a:gd name="adj2" fmla="val 667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02" name="AutoShape 136"/>
          <p:cNvSpPr/>
          <p:nvPr/>
        </p:nvSpPr>
        <p:spPr>
          <a:xfrm rot="10800000">
            <a:off x="7093080" y="5516640"/>
            <a:ext cx="576000" cy="216000"/>
          </a:xfrm>
          <a:prstGeom prst="rightArrow">
            <a:avLst>
              <a:gd name="adj1" fmla="val 50000"/>
              <a:gd name="adj2" fmla="val 6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03" name="AutoShape 137"/>
          <p:cNvSpPr/>
          <p:nvPr/>
        </p:nvSpPr>
        <p:spPr>
          <a:xfrm rot="10800000">
            <a:off x="7093080" y="6165720"/>
            <a:ext cx="576000" cy="216000"/>
          </a:xfrm>
          <a:prstGeom prst="rightArrow">
            <a:avLst>
              <a:gd name="adj1" fmla="val 50000"/>
              <a:gd name="adj2" fmla="val 6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04" name="Line 139"/>
          <p:cNvSpPr/>
          <p:nvPr/>
        </p:nvSpPr>
        <p:spPr>
          <a:xfrm>
            <a:off x="108000" y="5300640"/>
            <a:ext cx="892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Derste devamlı hareket eden, hiçbir şey bulamazsa kalemini açmak için çöpe giden bir öğrenciyi öğretmeni suçladığında öğrenci şöyle demek istemektedir: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0" algn="just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0" algn="just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	</a:t>
            </a: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“</a:t>
            </a: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Canım öğretmenim. Ben </a:t>
            </a:r>
            <a:r>
              <a:rPr b="1" lang="tr-TR" sz="2400" spc="-1" strike="noStrike">
                <a:solidFill>
                  <a:srgbClr val="a50021"/>
                </a:solidFill>
                <a:latin typeface="Neo Sans Intel"/>
              </a:rPr>
              <a:t>kinestetik, harekete dayalı</a:t>
            </a:r>
            <a:r>
              <a:rPr b="1" lang="tr-TR" sz="2400" spc="-1" strike="noStrike">
                <a:solidFill>
                  <a:srgbClr val="003864"/>
                </a:solidFill>
                <a:latin typeface="Neo Sans Intel"/>
              </a:rPr>
              <a:t> </a:t>
            </a: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bir öğrenciyim. 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0" algn="just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	</a:t>
            </a: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Oysa sen susun, kıpırdamayın, çiçek olun diyorsun. Ama ben hareket ederek öğrenebilirim. 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0" algn="just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	</a:t>
            </a: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Sen derste </a:t>
            </a:r>
            <a:r>
              <a:rPr b="0" lang="tr-TR" sz="2400" spc="-1" strike="noStrike">
                <a:solidFill>
                  <a:srgbClr val="a50021"/>
                </a:solidFill>
                <a:latin typeface="Neo Sans Intel"/>
              </a:rPr>
              <a:t>sadece konuşuyorsun</a:t>
            </a: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0" algn="just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	</a:t>
            </a: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Konuyu harekete dayalı işlesen ben de hareket ihtiyacımı gidermiş olacağım.”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İŞTE ÖRNEĞİ</a:t>
            </a: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NE YAPABİLİRİM?</a:t>
            </a: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Planlama ve sınıf içi uygulamaları </a:t>
            </a:r>
            <a:r>
              <a:rPr b="1" lang="tr-TR" sz="2400" spc="-1" strike="noStrike">
                <a:solidFill>
                  <a:srgbClr val="a50021"/>
                </a:solidFill>
                <a:latin typeface="Neo Sans Intel"/>
              </a:rPr>
              <a:t>sekiz zeka alanını</a:t>
            </a:r>
            <a:r>
              <a:rPr b="1" lang="tr-TR" sz="2400" spc="-1" strike="noStrike">
                <a:solidFill>
                  <a:srgbClr val="000000"/>
                </a:solidFill>
                <a:latin typeface="Neo Sans Intel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dikkate alarak yapabilirim.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Bunun için </a:t>
            </a:r>
            <a:r>
              <a:rPr b="1" lang="tr-TR" sz="2400" spc="-1" strike="noStrike">
                <a:solidFill>
                  <a:srgbClr val="a50021"/>
                </a:solidFill>
                <a:latin typeface="Neo Sans Intel"/>
              </a:rPr>
              <a:t>öncelikle kendimin</a:t>
            </a:r>
            <a:r>
              <a:rPr b="1" lang="tr-TR" sz="2400" spc="-1" strike="noStrike">
                <a:solidFill>
                  <a:srgbClr val="000000"/>
                </a:solidFill>
                <a:latin typeface="Neo Sans Intel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hangi alanlarda baskın olduğumu ve dersi nasıl sunduğumu saptamalıyım.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Bloom Taksonomisi</a:t>
            </a: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1341360"/>
          <a:ext cx="9144000" cy="5058000"/>
        </p:xfrm>
        <a:graphic>
          <a:graphicData uri="http://schemas.openxmlformats.org/drawingml/2006/table">
            <a:tbl>
              <a:tblPr/>
              <a:tblGrid>
                <a:gridCol w="2700360"/>
                <a:gridCol w="3395520"/>
                <a:gridCol w="30481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Bilişsel Al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Duyuşsal Al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Psiko-motor Al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Bilg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Alm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Uyarıl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Kavra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Tepkide bulun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Kılavuz denetiminde yap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Uygula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Değer verm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Beceri haline getir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Anali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Organize et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Duruma uydur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Sentez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Değerler bütünüyle nitelenmişli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Yaratm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Değerlendirm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Bu Tablo Ne İşime Yarar?</a:t>
            </a: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2760" y="1268280"/>
            <a:ext cx="8589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Bu tablo öğretmenin soru sorma becerisinin önemini ön plana çıkarmaktadır. 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39480" indent="0" algn="just"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Eğer öğrenciler sürekli düşük düzeyli sorularla karşılaşırsa düşük düzeyli düşünmeye yatkınlaşırlar.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39480" indent="-339480" algn="just"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Yüksek bilişsel düzeyli sorular öğrencileri yaratıcı ve çok yönlü düşünmeye yatkın kılacaktır.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39480" indent="-339480" algn="just"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Tüm öğretmenlerimiz asgari bir beceri olarak bilgi, kavrama, uygulama, analiz, sentez ve değerlendirme düzeylerinde otomatikleşmiş biçimde soru sorma becerilerine sahip olmalıdırlar.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BİLGİ</a:t>
            </a: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 Basamağı</a:t>
            </a: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1268280"/>
          <a:ext cx="9144000" cy="50799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Soru Kökle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Kim?,Ne?, Ne zaman?, Nerede?, Tanımla, Açıkla, Hangisi?, Ne kadar?, vb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Anahtar Kelime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Tanımla, sırala, listele, seç, ifade et, söyle, bul, göster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Örnek Sor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99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Neo Sans Inte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Güneş takvimini tarihte ilk kez kimler kullanmıştır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Neo Sans Inte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Dağın tanımını derste geçen ifadesiyle yazınız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Neo Sans Inte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Yeşil bir bitkinin solunumda çıkardığı maddeler aşağıdaki seçeneklerden hangisinde verilmiştir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BİLGİ Basamağı - </a:t>
            </a:r>
            <a:r>
              <a:rPr b="0" lang="tr-TR" sz="4000" spc="-1" strike="noStrike">
                <a:solidFill>
                  <a:srgbClr val="00487e"/>
                </a:solidFill>
                <a:latin typeface="Neo Sans Intel"/>
              </a:rPr>
              <a:t>Sorular</a:t>
            </a:r>
            <a:endParaRPr b="0" lang="en-US" sz="4000" spc="-1" strike="noStrike">
              <a:solidFill>
                <a:srgbClr val="00487e"/>
              </a:solidFill>
              <a:latin typeface="Neo Sans Inte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50920" y="1268280"/>
          <a:ext cx="8642160" cy="4724640"/>
        </p:xfrm>
        <a:graphic>
          <a:graphicData uri="http://schemas.openxmlformats.org/drawingml/2006/table">
            <a:tbl>
              <a:tblPr/>
              <a:tblGrid>
                <a:gridCol w="3255840"/>
                <a:gridCol w="5386320"/>
              </a:tblGrid>
              <a:tr h="503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Zeka Türler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Örnek Sor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Mantıksal-Matematik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  <a:ea typeface="Arial"/>
                        </a:rPr>
                        <a:t>Pul size neyi hatırlatıyor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Sözel-Dil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  <a:ea typeface="Arial"/>
                        </a:rPr>
                        <a:t>Pul nedir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Görsel-Uzams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  <a:ea typeface="Arial"/>
                        </a:rPr>
                        <a:t>Pulu şekille anlatını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Müziksel-Ritm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  <a:ea typeface="Arial"/>
                        </a:rPr>
                        <a:t>Pul ile ilgili bir parçayı ezber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Bedensel-Kineste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  <a:ea typeface="Arial"/>
                        </a:rPr>
                        <a:t>Pulu nasıl taklit edersiniz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Doğ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  <a:ea typeface="Arial"/>
                        </a:rPr>
                        <a:t>Pul nerelerde kullanılır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Kişileraras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  <a:ea typeface="Arial"/>
                        </a:rPr>
                        <a:t>Kimler pulla çok ilgilenir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İç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  <a:ea typeface="Arial"/>
                        </a:rPr>
                        <a:t>Posta puluna yeni bir isim vermen gerekirse ne verirsi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KAVRAMA</a:t>
            </a: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 Basamağı</a:t>
            </a: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1268280"/>
          <a:ext cx="9144000" cy="54277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Soru Kökle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00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Bunun anlamı nedir?,…hakkındaki beklentilerin nelerdir? Sence….ne olacağa benziyor?,…olsaydı ne olurdu?, vb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Anahtar Kelime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Sınıflandır, tartış, genelle, açıkla, tahmin et, örnek ver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Örnek Sor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08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Neo Sans Inte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Gazlarla sıvılar arasındaki farklar nelerdir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Neo Sans Inte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İnsanda böbreküstü bezleri, pankreas ve karaciğerin ortak görevi aşağıdakilerden hangisidir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Neo Sans Inte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6dm,50cm’nin metre cinsinden ifadesi hangisidir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KAVRAMA Basamağı - </a:t>
            </a:r>
            <a:r>
              <a:rPr b="0" lang="tr-TR" sz="4000" spc="-1" strike="noStrike">
                <a:solidFill>
                  <a:srgbClr val="00487e"/>
                </a:solidFill>
                <a:latin typeface="Neo Sans Intel"/>
              </a:rPr>
              <a:t>Sorular</a:t>
            </a:r>
            <a:endParaRPr b="0" lang="en-US" sz="4000" spc="-1" strike="noStrike">
              <a:solidFill>
                <a:srgbClr val="00487e"/>
              </a:solidFill>
              <a:latin typeface="Neo Sans Inte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50920" y="1268280"/>
          <a:ext cx="8642160" cy="4724640"/>
        </p:xfrm>
        <a:graphic>
          <a:graphicData uri="http://schemas.openxmlformats.org/drawingml/2006/table">
            <a:tbl>
              <a:tblPr/>
              <a:tblGrid>
                <a:gridCol w="3255840"/>
                <a:gridCol w="5386320"/>
              </a:tblGrid>
              <a:tr h="474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Zeka Türler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Örnek Sor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Mantıksal-Matematik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Kendi kelimelerinle posta pulunu tarif eder misi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Sözel-Dil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osta pulunu tarif eder misi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Görsel-Uzams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osta pulunda olması gerekenleri çizini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Müziksel-Ritm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osta pulunun yolculuğunu ritimle anlatını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Bedensel-Kineste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Sessiz sinema oyununda pulu anlatı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Doğ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ul üzerinde doğadan neleri kullanabiliriz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Kişileraras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Arkadaşınla pulun tarifini yeniden yapı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İç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osta pulunun ingilizce karşılığını ya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4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UYGULAMA</a:t>
            </a: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 Basamağı</a:t>
            </a: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0" y="1279440"/>
          <a:ext cx="9144000" cy="51786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Soru Kökle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9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…</a:t>
                      </a: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olursa ne olabileceğini tahmin et, …ne zaman olurdu?, …halinde ne olacağını anlatınız, …yı kullanacak mısın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Anahtar Kelime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Uygula, birleştir, kur, inşa et, yap, üret, öngör, çöz, öğr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Örnek Sor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075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Neo Sans Inte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… </a:t>
                      </a: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dörtlüğün nazım şekli aşağıdakilerden hangisidir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Neo Sans Inte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Ekvator üzerinde bulunan yerlerde gece ile gündüzün ne zaman eşit olduğunu işlemle açıklayınız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Neo Sans Inte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Dört işçi bir işi 48 saatte yapıyor. Aynı hızla çalışan 6 işçi, aynı işi kaç saatte yapar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UYGULAMA Basamağı - </a:t>
            </a:r>
            <a:r>
              <a:rPr b="0" lang="tr-TR" sz="4000" spc="-1" strike="noStrike">
                <a:solidFill>
                  <a:srgbClr val="00487e"/>
                </a:solidFill>
                <a:latin typeface="Neo Sans Intel"/>
              </a:rPr>
              <a:t>Sorular</a:t>
            </a:r>
            <a:endParaRPr b="0" lang="en-US" sz="4000" spc="-1" strike="noStrike">
              <a:solidFill>
                <a:srgbClr val="00487e"/>
              </a:solidFill>
              <a:latin typeface="Neo Sans Inte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50920" y="1052640"/>
          <a:ext cx="8642160" cy="5319720"/>
        </p:xfrm>
        <a:graphic>
          <a:graphicData uri="http://schemas.openxmlformats.org/drawingml/2006/table">
            <a:tbl>
              <a:tblPr/>
              <a:tblGrid>
                <a:gridCol w="3255840"/>
                <a:gridCol w="5386320"/>
              </a:tblGrid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Zeka Türler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Örnek Sor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Mantıksal-Matematik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osta pulunun katettiği yol ile ilgili aşağıdaki problemi çözü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Sözel-Dil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osta pulunun hayatımızdaki yerini bir broşür ile anlatı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Görsel-Uzams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osta pulunu üç boyutlu olarak nasıl çizebiliriz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Müziksel-Ritm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osta pulunu konu alan bir parçayı bir enstrüman ile çalını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Bedensel-Kineste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Açık havada pulu toprağa çizerek anlatı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Doğ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Doğada posta pulu gibi seyehat eden başka şeyler var mıdır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Kişileraras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ulu günlük hayatımızda nelere benzetebiliriz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İç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ullar olmasaydı ne olurdu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SONUÇ</a:t>
            </a: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3120" y="1412640"/>
            <a:ext cx="851688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Tek yönlü beslenme vücutta istenmeyen sonuçlara yol açar.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Zeka açısından tek yönlü beslenme de istenmeyen sonuçlara yol açar.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ANALİZ</a:t>
            </a:r>
            <a:r>
              <a:rPr b="0" lang="tr-TR" sz="4000" spc="-1" strike="noStrike">
                <a:solidFill>
                  <a:srgbClr val="00487e"/>
                </a:solidFill>
                <a:latin typeface="Neo Sans Intel"/>
              </a:rPr>
              <a:t> Basamağı</a:t>
            </a:r>
            <a:endParaRPr b="0" lang="en-US" sz="4000" spc="-1" strike="noStrike">
              <a:solidFill>
                <a:srgbClr val="00487e"/>
              </a:solidFill>
              <a:latin typeface="Neo Sans Inte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0" y="1284120"/>
          <a:ext cx="9144000" cy="45072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Soru Kökle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…</a:t>
                      </a: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olduğunu hangi fikirler haklı gösteriyor?,…nın elemanları nelerdir?,…ile…arasındaki ilişki nedir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Anahtar Kelime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Ayırt et, ilişkilendir, analiz et, karşılaştır, söküp parça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Örnek Sor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0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1) Büyük dolaşım ile küçük dolaşım arasındaki ilişkiyi açıklayınız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2) ….cümlesinin öznesi aşağıdakilerden hangisidir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3) Aşağıdakilerden hangisinin sonucu hem 2 hem de 5 ile bölünemez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ANALİZ Basamağı - </a:t>
            </a:r>
            <a:r>
              <a:rPr b="0" lang="tr-TR" sz="4000" spc="-1" strike="noStrike">
                <a:solidFill>
                  <a:srgbClr val="00487e"/>
                </a:solidFill>
                <a:latin typeface="Neo Sans Intel"/>
              </a:rPr>
              <a:t>Sorular</a:t>
            </a:r>
            <a:endParaRPr b="0" lang="en-US" sz="4000" spc="-1" strike="noStrike">
              <a:solidFill>
                <a:srgbClr val="00487e"/>
              </a:solidFill>
              <a:latin typeface="Neo Sans Inte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50920" y="1157400"/>
          <a:ext cx="8642160" cy="5516280"/>
        </p:xfrm>
        <a:graphic>
          <a:graphicData uri="http://schemas.openxmlformats.org/drawingml/2006/table">
            <a:tbl>
              <a:tblPr/>
              <a:tblGrid>
                <a:gridCol w="3255840"/>
                <a:gridCol w="5386320"/>
              </a:tblGrid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Zeka Türler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Örnek Sor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Mantıksal-Matematik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osta pulunun elemanları nelerdir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Sözel-Dil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ulları kullanım alanlarına göre sınıflandırını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Görsel-Uzams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ulları resmettikleri alanlara göre nasıl sınıflandırabiliriz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Müziksel-Ritm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osta pulunu anlatan bir parça yapsan, bu parçayı hangi enstrumanla çalarsı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Bedensel-Kineste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Siz pul olsaydınız üzerinizde neler bulunurdu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Doğ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ulun elemanlara ayrılması üzerinde dikkatle düşünü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Kişileraras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Arkadaşlarının pullarını bir araya toplayacak bir organizasyon ya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İç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ulların yıllara göre  gösterdiği değişiklikleri araştırını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SENTEZ</a:t>
            </a: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 Basamağı</a:t>
            </a: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284120"/>
          <a:ext cx="9144000" cy="48117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Soru Kökle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…</a:t>
                      </a: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.yı daha farklı nasıl yaparsın?, …nın alternatifi nedir?, …yı nasıl düzenlersin?, …yı nerede üretirsin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Anahtar Kelime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9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Oluştur, planla, yarat, bestele, kompoze et, formüle 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Örnek Sor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1) Galatasaray’ın başarısını yansıtan bir kompozisyon yazınız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2) Aşağıda verilen şiire uygun bir beste yazınız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3) Trafik kazalarını azaltmak için yolların nasıl düzenlenmesi gerektiği konusunda bir model oluşturunuz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SENTEZ Basamağı - </a:t>
            </a:r>
            <a:r>
              <a:rPr b="0" lang="tr-TR" sz="4000" spc="-1" strike="noStrike">
                <a:solidFill>
                  <a:srgbClr val="00487e"/>
                </a:solidFill>
                <a:latin typeface="Neo Sans Intel"/>
              </a:rPr>
              <a:t>Sorular</a:t>
            </a:r>
            <a:endParaRPr b="0" lang="en-US" sz="4000" spc="-1" strike="noStrike">
              <a:solidFill>
                <a:srgbClr val="00487e"/>
              </a:solidFill>
              <a:latin typeface="Neo Sans Inte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1197000"/>
          <a:ext cx="8642160" cy="5318280"/>
        </p:xfrm>
        <a:graphic>
          <a:graphicData uri="http://schemas.openxmlformats.org/drawingml/2006/table">
            <a:tbl>
              <a:tblPr/>
              <a:tblGrid>
                <a:gridCol w="3255840"/>
                <a:gridCol w="5386320"/>
              </a:tblGrid>
              <a:tr h="45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Zeka Türler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Örnek Sor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Mantıksal-Matematik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Bir posta pulunu oluşturan ögelerden gereksiz olanı var mıdır?Nede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Sözel-Dil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ulların hayatımızdaki yeri konusunda bir kompozisyon yazını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Görsel-Uzams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osta pulunu ilk siz yapsaydınız neleri farklı yapardınız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Müziksel-Ritm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osta pulunu konu alan bir beste yapını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Bedensel-Kineste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ulun yolculuğunu arkadaşlarınızı kullanarak sınıfta gösteriniz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Doğ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ul içine doğadan neler katılabilir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Kişileraras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Toplanan pulları sergileyen bir faaliyet planl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İç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ulları kullanarak bir oyun tasarlayını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DEĞERLENDİRME</a:t>
            </a: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 Basamağı</a:t>
            </a: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0" y="1268280"/>
          <a:ext cx="9144000" cy="48466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2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Soru Kökle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96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…</a:t>
                      </a: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dan hangisi uygun olur?, …ları nasıl karşılaştırırsın?, …yapmak mantıklı mı?, …dan hangisi daha önemli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Anahtar Kelime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Yargıla, değerlendir, zıtlık oluştur, eleştir, yorumla,sav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Örnek Sor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Neo Sans Inte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Çıkarma işlemi yaparken sayı doğrusu kullanmak sence ne ölçüde yararlıdır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Neo Sans Inte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Termik santraller ile atom santrallerini enerji üretimi açısından nasıl değerlendirirsin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487e"/>
                </a:solidFill>
                <a:latin typeface="Neo Sans Intel"/>
              </a:rPr>
              <a:t>DEĞERLENDİRME Basamağı - Sorular</a:t>
            </a:r>
            <a:endParaRPr b="0" lang="en-US" sz="3600" spc="-1" strike="noStrike">
              <a:solidFill>
                <a:srgbClr val="00487e"/>
              </a:solidFill>
              <a:latin typeface="Neo Sans Inte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50920" y="1184400"/>
          <a:ext cx="8642160" cy="5348160"/>
        </p:xfrm>
        <a:graphic>
          <a:graphicData uri="http://schemas.openxmlformats.org/drawingml/2006/table">
            <a:tbl>
              <a:tblPr/>
              <a:tblGrid>
                <a:gridCol w="3255840"/>
                <a:gridCol w="5386320"/>
              </a:tblGrid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Zeka Türler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Örnek Sor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Mantıksal-Matematik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ul örneklerini işledikleri temalar ve diğer özellikleri açısından tabloya dö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Sözel-Dil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osta pullarının yarını hakkında neler düşünüyorsu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Görsel-Uzams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osta pulunun hayatımızdaki önemini artırabilir miyiz?Nasıl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Müziksel-Ritm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ul üzerindeki elemanlar ses çıkarsaydı neler söylerlerdi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Bedensel-Kineste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Bu yolu daha işler hale nasıl getirirsiniz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Doğ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Doğa ile ilgili hangi olaylar posta pulu ile anlatılabilir? Nasıl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Kişileraras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ulların hayatımızdaki bu günü ve yarınını arkadaşlarına anla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İç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Neo Sans Intel"/>
                        </a:rPr>
                        <a:t>Pulların önemini artırmak için ne tür oluşumlar desteklenebilir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246384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487e"/>
                </a:solidFill>
                <a:latin typeface="Neo Sans Intel"/>
              </a:rPr>
              <a:t>Sorular ve Yorumlar</a:t>
            </a:r>
            <a:endParaRPr b="0" lang="en-US" sz="4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487e"/>
                </a:solidFill>
                <a:latin typeface="Neo Sans Intel"/>
              </a:rPr>
              <a:t>TEŞEKKÜRLER</a:t>
            </a:r>
            <a:endParaRPr b="0" lang="en-US" sz="44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KIYASLAMA</a:t>
            </a: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11280" y="1484280"/>
          <a:ext cx="7921440" cy="4008600"/>
        </p:xfrm>
        <a:graphic>
          <a:graphicData uri="http://schemas.openxmlformats.org/drawingml/2006/table">
            <a:tbl>
              <a:tblPr/>
              <a:tblGrid>
                <a:gridCol w="4024080"/>
                <a:gridCol w="3897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Zekaya İlişkin Eski Bakış Açıs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Zekaya İlişkin Yeni Bakış Açıs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Zeka </a:t>
                      </a:r>
                      <a:r>
                        <a:rPr b="1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sabittir</a:t>
                      </a: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Zeka </a:t>
                      </a:r>
                      <a:r>
                        <a:rPr b="1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geliştirilebilir</a:t>
                      </a: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Zeka </a:t>
                      </a:r>
                      <a:r>
                        <a:rPr b="1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niceliksel</a:t>
                      </a: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 olarak ölçülebil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Zeka </a:t>
                      </a:r>
                      <a:r>
                        <a:rPr b="1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sayısal</a:t>
                      </a: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 olarak hesaplanamaz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Zeka </a:t>
                      </a:r>
                      <a:r>
                        <a:rPr b="1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tekildir</a:t>
                      </a: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Zeka </a:t>
                      </a:r>
                      <a:r>
                        <a:rPr b="1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çeşitli yollarla</a:t>
                      </a: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 ortaya konulabili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Zeka </a:t>
                      </a:r>
                      <a:r>
                        <a:rPr b="1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gerçek yaşamdan soyutlanarak</a:t>
                      </a: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 ölçülü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Zeka </a:t>
                      </a:r>
                      <a:r>
                        <a:rPr b="1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bağlam/gerçek yaşam durumunda</a:t>
                      </a: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 ölçülü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Zeka öğrencileri </a:t>
                      </a:r>
                      <a:r>
                        <a:rPr b="1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sıralamak ve olası başarılarını kestirmek</a:t>
                      </a: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 için kullanılı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Zeka bireylerin </a:t>
                      </a:r>
                      <a:r>
                        <a:rPr b="1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gizli güçlerini ve onların başarılı olabilecekleri farklı yolları anlamak</a:t>
                      </a: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Neo Sans Intel"/>
                        </a:rPr>
                        <a:t> için kullanılı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Neo Sans Int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312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İnsan beyni 8 zeka türüne sahip olduğu halde geleneksel eğitim bunlardan sayısal ve sözel olanı dikkate almaktadır.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Beyinler insanın doğasına ve yaradılışına aykırı olarak formatlanmaktadır. 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Bu işlemin yıllardır sistematik olarak yapıldığını varsayarsak ulus olarak nasıl bir çıkmazda olduğumuzu ve yaratıcılığımızın nasıl öldürüldüğünü kavramak zor olmayacaktır.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SONUÇ</a:t>
            </a: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6660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487e"/>
                </a:solidFill>
                <a:latin typeface="Neo Sans Intel"/>
              </a:rPr>
              <a:t>Howard Gardner’a Göre </a:t>
            </a:r>
            <a:br>
              <a:rPr sz="3200"/>
            </a:br>
            <a:r>
              <a:rPr b="0" lang="tr-TR" sz="3200" spc="-1" strike="noStrike">
                <a:solidFill>
                  <a:srgbClr val="00487e"/>
                </a:solidFill>
                <a:latin typeface="Neo Sans Intel"/>
              </a:rPr>
              <a:t>Zekanın Özellikleri</a:t>
            </a:r>
            <a:endParaRPr b="0" lang="en-US" sz="32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8720" y="1269720"/>
            <a:ext cx="867564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Her insan kendi zekasını artırma ve geliştirme yeteneğine sahiptir.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Zeka çok yönlülük göstermesine rağmen, kendi içinde bir bütündür.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Her insan çeşitli zeka alanlarının tümüne sahiptir.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Her insan, zeka alanlarından her birini belli bir düzeyde geliştirebilir.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Çeşitli zeka alanları, genellikle bir arada belli bir uyum içinde çalışırlar.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Bir insanın her alanda zeki olabilmesinin birçok yolu bulunmaktadır.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6040" y="5400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SONUÇ</a:t>
            </a: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Her </a:t>
            </a:r>
            <a:r>
              <a:rPr b="1" lang="tr-TR" sz="2400" spc="-1" strike="noStrike">
                <a:solidFill>
                  <a:srgbClr val="a50021"/>
                </a:solidFill>
                <a:latin typeface="Neo Sans Intel"/>
              </a:rPr>
              <a:t>iki yılda bir</a:t>
            </a: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 eğitim alanındaki bilgi birikiminin </a:t>
            </a:r>
            <a:r>
              <a:rPr b="1" lang="tr-TR" sz="2400" spc="-1" strike="noStrike">
                <a:solidFill>
                  <a:srgbClr val="a50021"/>
                </a:solidFill>
                <a:latin typeface="Neo Sans Intel"/>
              </a:rPr>
              <a:t>ikiye</a:t>
            </a:r>
            <a:r>
              <a:rPr b="1" lang="tr-TR" sz="2400" spc="-1" strike="noStrike">
                <a:solidFill>
                  <a:srgbClr val="003864"/>
                </a:solidFill>
                <a:latin typeface="Neo Sans Intel"/>
              </a:rPr>
              <a:t> </a:t>
            </a:r>
            <a:r>
              <a:rPr b="1" lang="tr-TR" sz="2400" spc="-1" strike="noStrike">
                <a:solidFill>
                  <a:srgbClr val="a50021"/>
                </a:solidFill>
                <a:latin typeface="Neo Sans Intel"/>
              </a:rPr>
              <a:t>katlandığı</a:t>
            </a: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 düşünülecek olursa, geleneksel yöntemlerle </a:t>
            </a:r>
            <a:r>
              <a:rPr b="1" lang="tr-TR" sz="2400" spc="-1" strike="noStrike">
                <a:solidFill>
                  <a:srgbClr val="a50021"/>
                </a:solidFill>
                <a:latin typeface="Neo Sans Intel"/>
              </a:rPr>
              <a:t>üçüncü bin yılın</a:t>
            </a: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 kotarılamayacağı açıktır.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32640" indent="-332640" algn="just"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Bilgisayarların “</a:t>
            </a:r>
            <a:r>
              <a:rPr b="0" lang="tr-TR" sz="2400" spc="-1" strike="noStrike">
                <a:solidFill>
                  <a:srgbClr val="a50021"/>
                </a:solidFill>
                <a:latin typeface="Neo Sans Intel"/>
              </a:rPr>
              <a:t>upgrade</a:t>
            </a: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” yapılması gibi bireylerin de kendilerini </a:t>
            </a:r>
            <a:r>
              <a:rPr b="0" lang="tr-TR" sz="2400" spc="-1" strike="noStrike">
                <a:solidFill>
                  <a:srgbClr val="a50021"/>
                </a:solidFill>
                <a:latin typeface="Neo Sans Intel"/>
              </a:rPr>
              <a:t>upgrade</a:t>
            </a: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 etmesi gerekmektedir.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32640" indent="-332640" algn="just">
              <a:spcBef>
                <a:spcPts val="1500"/>
              </a:spcBef>
              <a:spcAft>
                <a:spcPts val="1500"/>
              </a:spcAft>
              <a:buClr>
                <a:srgbClr val="a50021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a50021"/>
                </a:solidFill>
                <a:latin typeface="Neo Sans Intel"/>
              </a:rPr>
              <a:t>Pentium 4</a:t>
            </a: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 kapasitesindeki yeni nesil bir çocuk </a:t>
            </a:r>
            <a:r>
              <a:rPr b="0" lang="tr-TR" sz="2400" spc="-1" strike="noStrike">
                <a:solidFill>
                  <a:srgbClr val="a50021"/>
                </a:solidFill>
                <a:latin typeface="Neo Sans Intel"/>
              </a:rPr>
              <a:t>386 işlemcili</a:t>
            </a: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 bir anne ya da öğretmenden elbette hazzetmez.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6040" y="1155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487e"/>
                </a:solidFill>
                <a:latin typeface="Neo Sans Intel"/>
              </a:rPr>
              <a:t>ZEKA ALANLARINI NASIL BELİRLERİM ?</a:t>
            </a:r>
            <a:endParaRPr b="0" lang="en-US" sz="32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Gözlem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İşaretleme Listesi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Dereceleme Ölçekleri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Anekdot Kaydı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Kimdir Bu?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Görüşme 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BİR TESPİT</a:t>
            </a: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9080" y="1268280"/>
            <a:ext cx="8604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Öğretmenlerin sosyo-kültürel ve akademik açıdan yetişme biçimleri, öğrencilerle olan iletişimlerini de biçimlendirmektedir.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25800" indent="-325800" algn="just"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Öğretmenler bilimsel ölçütler yerine kişisel ölçütlere göre öğretmenlik yaparlarsa, çok farklı öğretmen tipleri ortaya çıkacaktır.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25800" indent="-325800" algn="just"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Benzeri farklılıklar, öğretmenlerin zeka alanları için de söz konusudur. Her öğretmen baskın olduğu zeka alanına göre ders sunma eğilimindedir.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25800"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a50021"/>
                </a:solidFill>
                <a:latin typeface="Neo Sans Intel"/>
              </a:rPr>
              <a:t>Oysa sınıfta </a:t>
            </a:r>
            <a:r>
              <a:rPr b="1" lang="tr-TR" sz="2800" spc="-1" strike="noStrike">
                <a:solidFill>
                  <a:srgbClr val="00487e"/>
                </a:solidFill>
                <a:latin typeface="Neo Sans Intel"/>
              </a:rPr>
              <a:t>sekiz zeka</a:t>
            </a:r>
            <a:r>
              <a:rPr b="0" lang="tr-TR" sz="2800" spc="-1" strike="noStrike">
                <a:solidFill>
                  <a:srgbClr val="a50021"/>
                </a:solidFill>
                <a:latin typeface="Neo Sans Intel"/>
              </a:rPr>
              <a:t> alanından öğrenciler bulunmaktadır.</a:t>
            </a:r>
            <a:endParaRPr b="0" lang="en-US" sz="28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487e"/>
                </a:solidFill>
                <a:latin typeface="Neo Sans Intel"/>
              </a:rPr>
              <a:t>İŞTE ÖRNEĞİ</a:t>
            </a:r>
            <a:endParaRPr b="0" lang="en-US" sz="4400" spc="-1" strike="noStrike">
              <a:solidFill>
                <a:srgbClr val="00487e"/>
              </a:solidFill>
              <a:latin typeface="Neo Sans Int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16000" y="126828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Neo Sans Int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Neo Sans Intel"/>
              </a:rPr>
              <a:t>Derste dalan, hayal kuran bir öğrenciye öğretmen kızdığında o öğrenci ona şöyle demek istemektedir: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35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358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	</a:t>
            </a: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“</a:t>
            </a: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Sevgili öğretmenim, ben sıklıkla dalıyor ya da hayal kuruyorum. 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358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	</a:t>
            </a: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Çünkü sen dersini sadece </a:t>
            </a:r>
            <a:r>
              <a:rPr b="1" lang="tr-TR" sz="2400" spc="-1" strike="noStrike">
                <a:solidFill>
                  <a:srgbClr val="a50021"/>
                </a:solidFill>
                <a:latin typeface="Neo Sans Intel"/>
              </a:rPr>
              <a:t>sözel dilsel</a:t>
            </a:r>
            <a:r>
              <a:rPr b="1" lang="tr-TR" sz="2400" spc="-1" strike="noStrike">
                <a:solidFill>
                  <a:srgbClr val="003864"/>
                </a:solidFill>
                <a:latin typeface="Neo Sans Intel"/>
              </a:rPr>
              <a:t> </a:t>
            </a: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olarak sunuyorsun. 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358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	</a:t>
            </a: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Benim doğal öğrenme kanalım olan </a:t>
            </a:r>
            <a:r>
              <a:rPr b="1" lang="tr-TR" sz="2400" spc="-1" strike="noStrike">
                <a:solidFill>
                  <a:srgbClr val="a50021"/>
                </a:solidFill>
                <a:latin typeface="Neo Sans Intel"/>
              </a:rPr>
              <a:t>görsel uyarıcılarla</a:t>
            </a:r>
            <a:r>
              <a:rPr b="1" lang="tr-TR" sz="2400" spc="-1" strike="noStrike">
                <a:solidFill>
                  <a:srgbClr val="003864"/>
                </a:solidFill>
                <a:latin typeface="Neo Sans Intel"/>
              </a:rPr>
              <a:t> </a:t>
            </a: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dersini sunmadığın için ben de kendi ihtiyacımı hayal kurarak kendim gidermeye çalışıyorum. 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  <a:p>
            <a:pPr marL="3358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	</a:t>
            </a:r>
            <a:r>
              <a:rPr b="0" lang="tr-TR" sz="2400" spc="-1" strike="noStrike">
                <a:solidFill>
                  <a:srgbClr val="003864"/>
                </a:solidFill>
                <a:latin typeface="Neo Sans Intel"/>
              </a:rPr>
              <a:t>Anlasana.”</a:t>
            </a:r>
            <a:endParaRPr b="0" lang="en-US" sz="2400" spc="-1" strike="noStrike">
              <a:solidFill>
                <a:srgbClr val="000000"/>
              </a:solidFill>
              <a:latin typeface="Neo Sans Int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4T17:28:37Z</dcterms:created>
  <dc:creator>admin</dc:creator>
  <dc:description/>
  <dc:language>en-US</dc:language>
  <cp:lastModifiedBy>Levent Sağıroğlu</cp:lastModifiedBy>
  <dcterms:modified xsi:type="dcterms:W3CDTF">2009-01-23T19:06:00Z</dcterms:modified>
  <cp:revision>79</cp:revision>
  <dc:subject/>
  <dc:title>Slayt 1</dc:title>
</cp:coreProperties>
</file>